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D2652-7224-4762-B6A9-BDEA75396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936D0-EDA0-43D7-A3C7-6998C585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39806-6E1A-402A-A6C5-ADB77C4BC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7CB72-D15D-4867-A342-E838630B3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31FA-F766-4286-A9C7-7C2AED0D4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92CE-9B49-4B61-9663-512FA206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08A8-8306-48CF-87B4-47F6E6A6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22D2-AF7D-4752-8E3A-0742B687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24C1-65F1-4BE0-AFC1-C983E283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F95E-494A-4442-810A-3BFEC322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67C6-B109-4AC5-9F80-C2CC47DD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F444C-F00C-4714-B531-2593ED48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1C99-06DD-4E2E-AEFE-B2984963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987D-D0B5-4A29-8E96-FF63DC7B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FFD9-EC46-4DCF-9286-199E1563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6024-4212-409B-8C0A-2559DB725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DB65-A15E-404A-8B81-18AE1665F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32026-9621-45F5-AD60-553D5D1A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C25C7-193C-4B1E-B4B9-54F76B5A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6AFDC-2C66-480B-9E15-49ECF09A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54BD0-4D9C-4144-8CA6-41FEAA7F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2C264-A07D-40AB-9C50-ACF21C76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10384-C67F-476B-8400-EDDE7E24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E2376-77EB-4088-A9DA-0DB0A838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AB2B-A919-481A-9DE9-F6C608808B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F33A-2B68-416A-9991-B7BCECE093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ffffff"/>
                </a:solidFill>
                <a:latin typeface="Arial"/>
              </a:rPr>
              <a:t>2.02F Adding and Animating Text in Computer Animations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47920" y="45720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2.02 Develop Computer Anim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352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601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performs the same function in an animation as it does in a graphic:  it provides information on the subject of the animation or directions to the vie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601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nimation program provides the added option of animating the text in some way to make it more eff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frame_animation_timeline"/>
          <p:cNvPicPr/>
          <p:nvPr/>
        </p:nvPicPr>
        <p:blipFill>
          <a:blip r:embed="rId1"/>
          <a:stretch/>
        </p:blipFill>
        <p:spPr>
          <a:xfrm>
            <a:off x="1447920" y="4419720"/>
            <a:ext cx="6324480" cy="19494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533520" y="609480"/>
            <a:ext cx="693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6699"/>
                </a:solidFill>
                <a:latin typeface="Arial"/>
              </a:rPr>
              <a:t>Text in computer anim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7696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dd a text object in animation softw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layer to hold the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the text tool from the tool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text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the tex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formatting o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, font size, and font sty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text color and al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rcRect l="44823" t="28966" r="48872" b="7294"/>
          <a:stretch/>
        </p:blipFill>
        <p:spPr>
          <a:xfrm>
            <a:off x="8077320" y="838080"/>
            <a:ext cx="761760" cy="5791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533520" y="609480"/>
            <a:ext cx="693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6699"/>
                </a:solidFill>
                <a:latin typeface="Arial"/>
              </a:rPr>
              <a:t>Adding text into computer animations 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111600" indent="-111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can appear and disappear in selected frames in the movie or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600" indent="-111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can fade in or fade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600" indent="-111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can follow a motion pa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600" indent="-111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can scroll or change col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600" indent="-111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can blink on and o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600" indent="-111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can appear one letter or word at a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60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600" indent="-111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 The possibilities for text animation will vary depending on the animation software being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105520" y="2971800"/>
            <a:ext cx="3809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0880" y="380880"/>
            <a:ext cx="69343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6699"/>
                </a:solidFill>
                <a:latin typeface="Arial"/>
              </a:rPr>
              <a:t>Possible Animation for Text </a:t>
            </a:r>
            <a:r>
              <a:rPr b="0" i="1" lang="en-US" sz="1800" spc="-1" strike="noStrike">
                <a:solidFill>
                  <a:srgbClr val="666699"/>
                </a:solidFill>
                <a:latin typeface="Arial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19:51:13Z</dcterms:created>
  <dc:creator>tcunning</dc:creator>
  <dc:description/>
  <dc:language>en-US</dc:language>
  <cp:lastModifiedBy>Preferred User</cp:lastModifiedBy>
  <dcterms:modified xsi:type="dcterms:W3CDTF">2011-04-21T00:13:36Z</dcterms:modified>
  <cp:revision>35</cp:revision>
  <dc:subject/>
  <dc:title>6. Add and Animate text to an animation</dc:title>
</cp:coreProperties>
</file>